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827-BF5D-4936-B4BC-7A08DEEE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D29-C3F7-43F2-A068-5F77D519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49E-C830-42B6-BEA1-58A1A7F4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47C-DCB3-45D3-9CC3-D6EE9506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4D6-BE96-4BBB-8149-B266B2EE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18B-C1EB-4E52-BC59-7B3E6B25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06B-E0E1-4A56-AFF7-697113EE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901-C451-45D0-81F5-780607F3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03E-EBEB-4C87-AB38-CA85F8D3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080-C2FB-4EBE-98B5-A95D676C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4A8-300F-4665-A91A-21CF86DD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7F5-93F3-41BB-8DD2-46ABF151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360"/>
                <a:ext cx="3352680" cy="110304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F6A1-95A9-4977-A608-462B5258E4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Латерофарингеални прос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Стилоидна пречага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1) processus styloideus ossis temporalis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2) m. stylohyoideus, m. styloglossus, m. stylopharyngeus, 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    lig. stylohyoideum, lig. stylomandibularae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3) stilofarinfealna fascija (fascia stylopharynge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Латерофарингеални простор:</a:t>
            </a:r>
            <a:br>
              <a:rPr sz="1800"/>
            </a:b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1) Престилоидни простор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(spatium prestyloideum)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2)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Ретростилоидни простор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(spatium retrostyloideu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рестилоидни простор:</a:t>
            </a:r>
            <a:br>
              <a:rPr sz="2000"/>
            </a:b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- спољашњи зид: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- m. pterygoideus medialis (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масетерични предео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унутрашњи зид: - бочни зид носног и усног дела ждрела</a:t>
            </a:r>
            <a:br>
              <a:rPr sz="1800"/>
            </a:b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- задњи зид: - унутрашњи део стилоидне преча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Садржај:</a:t>
            </a:r>
            <a:br>
              <a:rPr sz="1800"/>
            </a:b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- доњи део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m. styloglossus-a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- a. palatina ascendens, a. pharyngea ascendens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вене пратиље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- n. pterygoideus medialis, n. tensoris veli palatini, n. tensoris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  tympani, n. glossopharyng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rcRect l="7697" t="0" r="37469" b="37210"/>
          <a:stretch/>
        </p:blipFill>
        <p:spPr>
          <a:xfrm>
            <a:off x="684360" y="0"/>
            <a:ext cx="8028000" cy="6892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rcRect l="9598" t="0" r="37986" b="39327"/>
          <a:stretch/>
        </p:blipFill>
        <p:spPr>
          <a:xfrm>
            <a:off x="755640" y="0"/>
            <a:ext cx="7669080" cy="6659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6952" t="20168" r="9765" b="21972"/>
          <a:stretch/>
        </p:blipFill>
        <p:spPr>
          <a:xfrm>
            <a:off x="500040" y="642960"/>
            <a:ext cx="7715160" cy="5643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26368" t="13915" r="9180" b="13575"/>
          <a:stretch/>
        </p:blipFill>
        <p:spPr>
          <a:xfrm>
            <a:off x="857160" y="-212760"/>
            <a:ext cx="7858080" cy="70707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Латерофарингеални прос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тростилоидни прос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предњи зид: стилоидна пречага – одваја га својим </a:t>
            </a:r>
            <a:r>
              <a:rPr b="0" i="1" lang="sr-CS" sz="2000" spc="-1" strike="noStrike">
                <a:solidFill>
                  <a:srgbClr val="ffffff"/>
                </a:solidFill>
                <a:latin typeface="Arial"/>
              </a:rPr>
              <a:t>унутрашњим делом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од  престилоидног простора, а својим </a:t>
            </a:r>
            <a:r>
              <a:rPr b="0" i="1" lang="sr-CS" sz="2000" spc="-1" strike="noStrike">
                <a:solidFill>
                  <a:srgbClr val="ffffff"/>
                </a:solidFill>
                <a:latin typeface="Arial"/>
              </a:rPr>
              <a:t>спољашњим делом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од паротидне ложе која је споља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задњи зи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 lamina prevertebr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нутрашњи зи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 septum longitudin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адржај: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a. carotis interna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v. jugularis interna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IX, X, XI, XII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ранијални нерв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горњи део стабла вратног симпатику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rcRect l="7671" t="0" r="38170" b="39179"/>
          <a:stretch/>
        </p:blipFill>
        <p:spPr>
          <a:xfrm>
            <a:off x="611280" y="185760"/>
            <a:ext cx="7921440" cy="6672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7671" t="0" r="37469" b="37210"/>
          <a:stretch/>
        </p:blipFill>
        <p:spPr>
          <a:xfrm>
            <a:off x="395280" y="0"/>
            <a:ext cx="8026560" cy="6888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Ретрофарингеални прос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алази се иза ждрела, а  испред кичменог стуба прекривеног преткичменим мишићима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Зидови: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предњи: задњи зид ждрела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задњи: вратни кичмени пршљенови прекривени преткичменим мишићима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бочни: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eptum longitudinale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адржај: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растресито ткиво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2-3 nodi lymphatici retropaharynge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n10</dc:creator>
  <dc:description/>
  <dc:language>en-US</dc:language>
  <cp:lastModifiedBy>Win10</cp:lastModifiedBy>
  <dcterms:modified xsi:type="dcterms:W3CDTF">2021-01-28T21:07:49Z</dcterms:modified>
  <cp:revision>1</cp:revision>
  <dc:subject/>
  <dc:title>Латерофарингеални простор</dc:title>
</cp:coreProperties>
</file>